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9D6-2893-4570-90E5-B3354929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DC8-2444-4A1D-BD9E-13E9B51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E2D-FEA4-495A-82AD-85B0EA39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EDC-952E-40D4-8FF0-5704FB66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6A59-1D65-47A9-87AB-71727C1C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51BC-151F-4FE8-914C-8EE9BC1D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E3AF-37C7-45E4-9F31-01A5E884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84A-891A-44F6-9A50-D370E90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7B5F-1D75-441D-9389-9371B7C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8DCD-0D63-4950-B0F3-84A78E2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5D64-8755-417B-ACF5-4BC24F0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6B6-08B6-4315-AAD3-03E2843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473-BFC6-429A-AD80-DCA0564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45D-63D9-4F9B-A9B9-CEA1B91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6F7B-FBBC-47BC-8BE2-B14C1991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E049-4D36-4821-80E6-CBDD5BCA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009-E097-45B3-BDA3-CD54130E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72A-D343-4376-B92A-4F74F17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A1E-7FE2-4A7C-AA31-D11DD6A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609-4892-48A4-B96D-82994E1E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4C7-60BC-4520-BA96-DAE21EC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2F4-9786-4C41-A3EB-AD639F47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28B-081C-4CB6-90B4-640AC31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4D0-397A-4C7E-9E0C-0F711E1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B5F-1A8F-4530-8895-88649F9223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97F9-88C2-425A-AAF5-42A4743491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bc40"/>
                </a:solidFill>
                <a:latin typeface="comic"/>
              </a:rPr>
              <a:t>COSTUME-CONTEMPORANE</a:t>
            </a:r>
            <a:endParaRPr b="0" lang="en-US" sz="32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Functiile costum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Stilurile costumului contempo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Caracterizarea principalelor stilu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554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bc40"/>
                </a:solidFill>
                <a:latin typeface="Agency FB"/>
              </a:rPr>
              <a:t>              </a:t>
            </a:r>
            <a:r>
              <a:rPr b="0" lang="en-US" sz="3600" spc="-1" strike="noStrike">
                <a:solidFill>
                  <a:srgbClr val="f4bc40"/>
                </a:solidFill>
                <a:latin typeface="Agency FB"/>
              </a:rPr>
              <a:t>FUNCTIILE COSTUMULUI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IDENTIFICATI FUNCTIILE URMATOARELOR PRODUSE VESTIMENTAR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193356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295280" cy="1343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924360" y="4149720"/>
            <a:ext cx="295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bc40"/>
                </a:solidFill>
                <a:latin typeface="Arial"/>
              </a:rPr>
              <a:t>STILURI VESTIMENTARE CONTEMPORANE</a:t>
            </a:r>
            <a:endParaRPr b="0" lang="en-US" sz="2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TI CORESPODENTA DINTRE PRODUSELE VESTIMENTARE SI STILUR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DE BIR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CLA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ETNO/FOLCLO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368360" cy="1873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2843280" y="4221000"/>
            <a:ext cx="190800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4859280" y="1413000"/>
            <a:ext cx="2233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bc40"/>
                </a:solidFill>
                <a:latin typeface="Arial"/>
              </a:rPr>
              <a:t>CARACTERISTICILE STILURILOR VESTIMENTARE CONTEMPORANE</a:t>
            </a:r>
            <a:endParaRPr b="0" lang="en-US" sz="2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ENUMERATI CATE TREI CARACTERISTICI PENTRU STILU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CLASIC 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……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DE BIROU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ROMANTIC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  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1557000"/>
            <a:ext cx="74772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ENUMERATI SI ALTE STILURI VESTIMENTARE CUNOSCUTE DE V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PREZENTATI IN CATEVA CUVINTE STILUL VESTIMENTAR CARE VA REPREZI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8:12:20Z</dcterms:created>
  <dc:creator>A</dc:creator>
  <dc:description/>
  <dc:language>en-US</dc:language>
  <cp:lastModifiedBy>A</cp:lastModifiedBy>
  <dcterms:modified xsi:type="dcterms:W3CDTF">2010-07-06T21:35:34Z</dcterms:modified>
  <cp:revision>9</cp:revision>
  <dc:subject/>
  <dc:title>COSTUME-CONTEMPORANE</dc:title>
</cp:coreProperties>
</file>